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fcf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1E61-F0EF-4526-999A-D4F75D4DF3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45DB-CAA2-4E7D-8842-827DF98723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D1D6-615E-4311-BCA3-7B6DFE6C51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35C1-3548-4BFA-B76A-5E1CD93C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C6E-6FA2-43AE-95EB-CE90B990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5BE2-4D21-4C9A-8529-17D1A308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611-92B0-4724-9753-B7BDFA0C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53052-3C76-48DA-A46D-1E43E1A1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7CD57-5B17-431A-9313-12CB06C5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C8246-4BFF-4F2D-956D-824B4201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4DE8C-BFB4-4DBA-8E36-18A73910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216EB-DA45-4617-97F7-F39643E5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E7D40-120D-475D-A45D-754A3E14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4B4D3-A723-4959-BE2D-73CF2284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995D-1888-4530-949E-69E38492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84392-336D-4B98-92C7-86A20647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2B7B4-F83E-4C47-8FB0-9B7EC7A0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E9D45-D4E9-4E40-919A-8D753CE0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532B8-900D-495B-9C72-FF02A452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16EDE-05CA-4A7F-BF00-5169AA15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290-326F-4705-8E44-56431C5E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442-186E-414C-9B3C-D7F42016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71A2-F10D-487F-864D-8EBE3B9B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FD9-6F60-4B7F-9A22-9F56FD20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7F21-9AD0-4EC7-A283-47EC7515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666F-4BC0-485C-BA64-D277BF91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3B62-9FC7-4DD1-8B68-08D7821E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fcf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DDE6-6638-42C1-B35E-FEF11B5F64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fcf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bfcf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7C63-96C9-4CC6-B7DB-5F2DE99395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685800" y="99072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33"/>
                </a:solidFill>
                <a:latin typeface="Tahoma"/>
              </a:rPr>
              <a:t>Человеческий голос как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9933"/>
                </a:solidFill>
                <a:latin typeface="Tahoma"/>
              </a:rPr>
              <a:t>музыкальный   инструмен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5562720" y="510552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ила: Козулина Е.А.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43 групп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imes New Roman"/>
              </a:rPr>
              <a:t>А можно ли влиять на голос? Можно ли его как то изменить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Как же сыграть на тройной системе в пределах нескольких октав и в каждый момент времени получать строго одну частоту?!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Достигнуть этого можно лишь с опытом и сноровкой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юди пользуются нелинейным процессом обратной связи  в преддверии гортани          (части воздушного пути над гортанью) для получения резонанса, т.е. усиления звуков, создаваемых голосовыми складками. Этот процесс  называется инерционным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опротивление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Что вы знаете о человеческом голосе?</a:t>
            </a:r>
            <a:br>
              <a:rPr sz="6600"/>
            </a:br>
            <a:endParaRPr b="0" lang="en-US" sz="6600" spc="-1" strike="noStrike">
              <a:solidFill>
                <a:srgbClr val="fbfcf6"/>
              </a:solidFill>
              <a:latin typeface="Tahoma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1905120" y="2971800"/>
            <a:ext cx="5181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ru-RU" sz="10000" spc="-1" strike="noStrike">
                <a:solidFill>
                  <a:srgbClr val="ff9933"/>
                </a:solidFill>
                <a:latin typeface="Times New Roman"/>
              </a:rPr>
              <a:t>Что же такое голос?</a:t>
            </a:r>
            <a:endParaRPr b="0" lang="en-US" sz="10000" spc="-1" strike="noStrike">
              <a:solidFill>
                <a:srgbClr val="fbfcf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bfcf6"/>
                </a:solidFill>
                <a:latin typeface="Tahoma"/>
              </a:rPr>
              <a:t>А какие основные составляющие голосового аппарата человека</a:t>
            </a:r>
            <a:r>
              <a:rPr b="0" lang="en-US" sz="7200" spc="-1" strike="noStrike">
                <a:solidFill>
                  <a:srgbClr val="fbfcf6"/>
                </a:solidFill>
                <a:latin typeface="Tahoma"/>
              </a:rPr>
              <a:t> </a:t>
            </a:r>
            <a:r>
              <a:rPr b="0" lang="ru-RU" sz="7200" spc="-1" strike="noStrike">
                <a:solidFill>
                  <a:srgbClr val="fbfcf6"/>
                </a:solidFill>
                <a:latin typeface="Tahoma"/>
              </a:rPr>
              <a:t>Вы знаете? </a:t>
            </a:r>
            <a:endParaRPr b="0" lang="en-US" sz="7200" spc="-1" strike="noStrike">
              <a:solidFill>
                <a:srgbClr val="fbfcf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1337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bfcf6"/>
                </a:solidFill>
                <a:latin typeface="Tahoma"/>
              </a:rPr>
              <a:t>Наш голосовой аппарат столь не велик, что трудно ожидать от него впечатляющего звучания как от музыкального инструмента.</a:t>
            </a:r>
            <a:br>
              <a:rPr sz="4000"/>
            </a:br>
            <a:endParaRPr b="0" lang="en-US" sz="4000" spc="-1" strike="noStrike">
              <a:solidFill>
                <a:srgbClr val="fbfcf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bfcf6"/>
                </a:solidFill>
                <a:latin typeface="Times New Roman"/>
              </a:rPr>
              <a:t>Как же тогда людям удается извлекать столь волшебные звуки?!</a:t>
            </a:r>
            <a:endParaRPr b="0" lang="en-US" sz="4000" spc="-1" strike="noStrike">
              <a:solidFill>
                <a:srgbClr val="fbfcf6"/>
              </a:solidFill>
              <a:latin typeface="Tahoma"/>
            </a:endParaRPr>
          </a:p>
        </p:txBody>
      </p:sp>
      <p:pic>
        <p:nvPicPr>
          <p:cNvPr id="98" name="Picture 4" descr="142581"/>
          <p:cNvPicPr/>
          <p:nvPr/>
        </p:nvPicPr>
        <p:blipFill>
          <a:blip r:embed="rId1"/>
          <a:stretch/>
        </p:blipFill>
        <p:spPr>
          <a:xfrm>
            <a:off x="533520" y="1752480"/>
            <a:ext cx="4343400" cy="4648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min2_1233155029-27899"/>
          <p:cNvPicPr/>
          <p:nvPr/>
        </p:nvPicPr>
        <p:blipFill>
          <a:blip r:embed="rId2"/>
          <a:stretch/>
        </p:blipFill>
        <p:spPr>
          <a:xfrm>
            <a:off x="5334120" y="1752480"/>
            <a:ext cx="3265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А как же выглядит наш голосовой аппарат?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Мы знаем строение нашего голосового аппарата.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А что в нем такое происходит при голосообразовании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495680" cy="63244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4952880" y="380880"/>
            <a:ext cx="3733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При голосообразовании голосовая щель замкнута и голосовые складки напряжены. Щель открывается под давлением воздуха лишь на короткое время. Через нее из дыхательных путей выходит часть воздуха. После этого, под действием аэродинамического эффекта Бернулли и сил упругости, голосовые складки снова смыкаются, а подскладочное давление снова стремится их разомкнуть. Так возникают квазипериодические импульсы воздушного давления, которые воспринимаются как голос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6073</cp:lastModifiedBy>
  <dcterms:modified xsi:type="dcterms:W3CDTF">2010-04-17T07:12:5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